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0402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33BA-4AAA-414C-955F-9096C50F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FF12-4735-4529-9C84-92AAF767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75D3-B672-4015-AE97-F4AFB3FB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475-ACAF-4615-990C-FEC48A89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34D6-84DA-4CCF-9DC2-FB146CED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59B-412B-4DD4-9F1B-BEEBA24A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B0BA-E776-45FC-B671-EDE79059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7A4-2C5F-4612-80DE-541C9790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E2F8-07CC-4114-8BF6-18835DF0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75D7-BFDB-4237-A42A-6F6DB5B1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A322-5676-4907-B253-6FFFC6C4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8EC-6D36-4A96-A2DC-EBB28F88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3432-08E4-43EC-B3E8-F1BDCBA7E7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100080" y="2976480"/>
            <a:ext cx="9683640" cy="280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AutoShape 135"/>
          <p:cNvSpPr/>
          <p:nvPr/>
        </p:nvSpPr>
        <p:spPr>
          <a:xfrm>
            <a:off x="36360" y="2774880"/>
            <a:ext cx="9828360" cy="4043520"/>
          </a:xfrm>
          <a:prstGeom prst="rect">
            <a:avLst/>
          </a:prstGeom>
          <a:noFill/>
          <a:ln w="284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137"/>
          <p:cNvSpPr/>
          <p:nvPr/>
        </p:nvSpPr>
        <p:spPr>
          <a:xfrm>
            <a:off x="6156360" y="2852640"/>
            <a:ext cx="3527280" cy="2509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1260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      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令和</a:t>
            </a:r>
            <a:r>
              <a:rPr b="1" lang="ja-JP" sz="1300" spc="-1" strike="noStrike">
                <a:solidFill>
                  <a:srgbClr val="ff0000"/>
                </a:solidFill>
                <a:latin typeface="ＭＳ Ｐゴシック"/>
              </a:rPr>
              <a:t>６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年度　「心の復興」事業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137"/>
          <p:cNvSpPr/>
          <p:nvPr/>
        </p:nvSpPr>
        <p:spPr>
          <a:xfrm>
            <a:off x="39600" y="2633760"/>
            <a:ext cx="2376720" cy="252360"/>
          </a:xfrm>
          <a:prstGeom prst="rect">
            <a:avLst/>
          </a:prstGeom>
          <a:solidFill>
            <a:srgbClr val="dbeef4"/>
          </a:solidFill>
          <a:ln w="284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取組内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6360" y="36360"/>
            <a:ext cx="9828360" cy="503280"/>
          </a:xfrm>
          <a:prstGeom prst="rect">
            <a:avLst/>
          </a:prstGeom>
          <a:gradFill rotWithShape="0">
            <a:gsLst>
              <a:gs pos="0">
                <a:srgbClr val="b7dee8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44"/>
          <p:cNvSpPr/>
          <p:nvPr/>
        </p:nvSpPr>
        <p:spPr>
          <a:xfrm>
            <a:off x="6080760" y="166680"/>
            <a:ext cx="93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～ＮＰＯ法人○○、一般社団法人○○、○○協会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5"/>
          <p:cNvSpPr/>
          <p:nvPr/>
        </p:nvSpPr>
        <p:spPr>
          <a:xfrm>
            <a:off x="8382600" y="32076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活動地域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</a:rPr>
              <a:t>：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○○県○○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46"/>
          <p:cNvSpPr/>
          <p:nvPr/>
        </p:nvSpPr>
        <p:spPr>
          <a:xfrm>
            <a:off x="3111480" y="128520"/>
            <a:ext cx="142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○○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プロジェク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100080" y="5938920"/>
            <a:ext cx="9683640" cy="80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・・・・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・・・・・・・・・・・・・・・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5"/>
          <p:cNvSpPr/>
          <p:nvPr/>
        </p:nvSpPr>
        <p:spPr>
          <a:xfrm>
            <a:off x="36360" y="714240"/>
            <a:ext cx="9828360" cy="1812960"/>
          </a:xfrm>
          <a:prstGeom prst="rect">
            <a:avLst/>
          </a:prstGeom>
          <a:noFill/>
          <a:ln w="284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135"/>
          <p:cNvSpPr/>
          <p:nvPr/>
        </p:nvSpPr>
        <p:spPr>
          <a:xfrm>
            <a:off x="179280" y="3195720"/>
            <a:ext cx="9504360" cy="171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取組「事業名■■■■」、実施主体■■■■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36"/>
          <p:cNvSpPr/>
          <p:nvPr/>
        </p:nvSpPr>
        <p:spPr>
          <a:xfrm>
            <a:off x="311040" y="3625920"/>
            <a:ext cx="262260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（例）第１回　（いつ、どの場所で、実施予定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　　第２回　（いつ、どの場所で、実施予定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37"/>
          <p:cNvSpPr/>
          <p:nvPr/>
        </p:nvSpPr>
        <p:spPr>
          <a:xfrm>
            <a:off x="311040" y="5261040"/>
            <a:ext cx="46324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（例）アンケート調査・インタビューをいつ、どこで、誰を対象として実施予定　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38"/>
          <p:cNvSpPr/>
          <p:nvPr/>
        </p:nvSpPr>
        <p:spPr>
          <a:xfrm>
            <a:off x="6718320" y="3354480"/>
            <a:ext cx="2851200" cy="14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必要に応じて参考とな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写真・地図・表・グラフなど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複数可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137"/>
          <p:cNvSpPr/>
          <p:nvPr/>
        </p:nvSpPr>
        <p:spPr>
          <a:xfrm>
            <a:off x="6156360" y="5832360"/>
            <a:ext cx="3527280" cy="2509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1260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次年度以降の展開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正方形/長方形 47"/>
          <p:cNvSpPr/>
          <p:nvPr/>
        </p:nvSpPr>
        <p:spPr>
          <a:xfrm>
            <a:off x="135000" y="915840"/>
            <a:ext cx="15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取組全体の目的・概要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350"/>
          <p:cNvSpPr/>
          <p:nvPr/>
        </p:nvSpPr>
        <p:spPr>
          <a:xfrm>
            <a:off x="4114800" y="5724360"/>
            <a:ext cx="1558800" cy="262080"/>
          </a:xfrm>
          <a:prstGeom prst="downArrow">
            <a:avLst>
              <a:gd name="adj1" fmla="val 51926"/>
              <a:gd name="adj2" fmla="val 6413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137"/>
          <p:cNvSpPr/>
          <p:nvPr/>
        </p:nvSpPr>
        <p:spPr>
          <a:xfrm>
            <a:off x="39600" y="615960"/>
            <a:ext cx="2376720" cy="252360"/>
          </a:xfrm>
          <a:prstGeom prst="rect">
            <a:avLst/>
          </a:prstGeom>
          <a:solidFill>
            <a:srgbClr val="dbeef4"/>
          </a:solidFill>
          <a:ln w="284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取組の目的・概要、効果・特徴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正方形/長方形 59"/>
          <p:cNvSpPr/>
          <p:nvPr/>
        </p:nvSpPr>
        <p:spPr>
          <a:xfrm>
            <a:off x="131760" y="1757520"/>
            <a:ext cx="127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取組の効果・特徴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135"/>
          <p:cNvSpPr/>
          <p:nvPr/>
        </p:nvSpPr>
        <p:spPr>
          <a:xfrm>
            <a:off x="179280" y="4938840"/>
            <a:ext cx="9504360" cy="769680"/>
          </a:xfrm>
          <a:prstGeom prst="rect">
            <a:avLst/>
          </a:prstGeom>
          <a:noFill/>
          <a:ln w="1260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成果の測定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正方形/長方形 24"/>
          <p:cNvSpPr/>
          <p:nvPr/>
        </p:nvSpPr>
        <p:spPr>
          <a:xfrm>
            <a:off x="63360" y="55440"/>
            <a:ext cx="2124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第３号様式　事業概要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09:08:50Z</dcterms:created>
  <dc:creator/>
  <dc:description/>
  <dc:language>en-US</dc:language>
  <cp:lastModifiedBy/>
  <dcterms:modified xsi:type="dcterms:W3CDTF">2025-03-11T06:47:06Z</dcterms:modified>
  <cp:revision>1</cp:revision>
  <dc:subject/>
  <dc:title/>
</cp:coreProperties>
</file>